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CACF-E515-4093-8EF3-D7E52F522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344E-6D1A-4F33-BC69-176F97832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imal row then distal row, both lateral-to-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Version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m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ition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'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l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9F6-A7F3-4FE5-BB01-3989A9E34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F519-FA6E-4213-81BC-FCA17B14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14A-0A15-44FF-8464-39AAEAFE5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5F1E-17A7-42F8-8B5C-07E830F8D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401B-8185-4A71-84F2-7C9B5C1D0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6D9-C7B2-440F-8388-73DA33B8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AE7-DC01-49B5-A98B-FC586601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405-3B45-47E8-A859-DE9AB29B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D22-1335-489E-A65C-32E37B7E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EA6-1662-4726-A5BA-0DCB1D1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302-CFF6-46B4-8A9D-1AC1CE14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4C2-D88C-48B5-9B92-FD1262F5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34B-63BD-48FF-84AE-E0871855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701-270F-4161-94C0-170E3D53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9AF-6F44-4DF5-9BA0-5BCEA08F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7EE-10DE-44B2-A305-10584FBF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D1C-B636-4288-8D82-261FFBF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43BD-7C39-4F94-BC10-A805DE223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f/f2/Pelvis_diagram.pn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Nex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ing sheets, Study guide one, Study Guide two, due at the beginning of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bow (posterior vie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ElbowAPLabelled"/>
          <p:cNvPicPr/>
          <p:nvPr/>
        </p:nvPicPr>
        <p:blipFill>
          <a:blip r:embed="rId1"/>
          <a:stretch/>
        </p:blipFill>
        <p:spPr>
          <a:xfrm>
            <a:off x="2057400" y="914400"/>
            <a:ext cx="4367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m? What Position? Vie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525840" y="1087560"/>
            <a:ext cx="2449440" cy="5487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839160" y="4419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78312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73280" y="609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56480" y="121932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00080" y="129528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629760" y="3200400"/>
            <a:ext cx="23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57560" y="32004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838800" y="30492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838440" y="213372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782040" y="22860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08760" y="38098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11433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61725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4724280" y="914400"/>
            <a:ext cx="1447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5181120" y="1600200"/>
            <a:ext cx="12956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 flipH="1" flipV="1">
            <a:off x="5029200" y="2361960"/>
            <a:ext cx="17524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2133720" y="2362320"/>
            <a:ext cx="2361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981080" y="1828800"/>
            <a:ext cx="243864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2438280" y="914400"/>
            <a:ext cx="2286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 flipH="1" flipV="1">
            <a:off x="4723920" y="3200040"/>
            <a:ext cx="2057400" cy="1219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 flipH="1" flipV="1">
            <a:off x="4876920" y="2514600"/>
            <a:ext cx="1752480" cy="838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2286000" y="5562720"/>
            <a:ext cx="1981080" cy="5331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 flipV="1">
            <a:off x="1905120" y="4191120"/>
            <a:ext cx="28191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 flipV="1">
            <a:off x="2819520" y="2971440"/>
            <a:ext cx="167616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 flipV="1">
            <a:off x="2362320" y="2514600"/>
            <a:ext cx="213336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4952520" y="5486400"/>
            <a:ext cx="129564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213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emon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3735000" y="152280"/>
            <a:ext cx="24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k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6705360" y="457200"/>
            <a:ext cx="170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moon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6857280" y="1371600"/>
            <a:ext cx="1767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ird T 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162920" y="266688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a-sha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6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830400" cy="5486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7"/>
          <p:cNvSpPr/>
          <p:nvPr/>
        </p:nvSpPr>
        <p:spPr>
          <a:xfrm>
            <a:off x="3352680" y="617220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837360" y="4419720"/>
            <a:ext cx="195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by the thumb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693800" y="5334120"/>
            <a:ext cx="153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y its sid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6858720" y="48769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315200" y="3505320"/>
            <a:ext cx="13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ham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 h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35160" y="685800"/>
            <a:ext cx="1316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2362320" y="533520"/>
            <a:ext cx="2438280" cy="990360"/>
            <a:chOff x="2362320" y="533520"/>
            <a:chExt cx="2438280" cy="990360"/>
          </a:xfrm>
        </p:grpSpPr>
        <p:sp>
          <p:nvSpPr>
            <p:cNvPr id="174" name="Line 33"/>
            <p:cNvSpPr/>
            <p:nvPr/>
          </p:nvSpPr>
          <p:spPr>
            <a:xfrm>
              <a:off x="3962520" y="533520"/>
              <a:ext cx="83808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>
              <a:off x="2362320" y="1066680"/>
              <a:ext cx="23619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4419720" y="533520"/>
            <a:ext cx="2361600" cy="990360"/>
            <a:chOff x="4419720" y="533520"/>
            <a:chExt cx="2361600" cy="990360"/>
          </a:xfrm>
        </p:grpSpPr>
        <p:sp>
          <p:nvSpPr>
            <p:cNvPr id="177" name="Line 37"/>
            <p:cNvSpPr/>
            <p:nvPr/>
          </p:nvSpPr>
          <p:spPr>
            <a:xfrm>
              <a:off x="4419720" y="533520"/>
              <a:ext cx="76176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 flipH="1">
              <a:off x="5181120" y="762120"/>
              <a:ext cx="16002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42"/>
          <p:cNvGrpSpPr/>
          <p:nvPr/>
        </p:nvGrpSpPr>
        <p:grpSpPr>
          <a:xfrm>
            <a:off x="5181480" y="533520"/>
            <a:ext cx="1752480" cy="1066680"/>
            <a:chOff x="5181480" y="533520"/>
            <a:chExt cx="1752480" cy="1066680"/>
          </a:xfrm>
        </p:grpSpPr>
        <p:sp>
          <p:nvSpPr>
            <p:cNvPr id="180" name="Line 40"/>
            <p:cNvSpPr/>
            <p:nvPr/>
          </p:nvSpPr>
          <p:spPr>
            <a:xfrm flipH="1" flipV="1">
              <a:off x="5333760" y="1523880"/>
              <a:ext cx="160020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41"/>
            <p:cNvSpPr/>
            <p:nvPr/>
          </p:nvSpPr>
          <p:spPr>
            <a:xfrm>
              <a:off x="5181480" y="533520"/>
              <a:ext cx="15264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45"/>
          <p:cNvGrpSpPr/>
          <p:nvPr/>
        </p:nvGrpSpPr>
        <p:grpSpPr>
          <a:xfrm>
            <a:off x="5333760" y="533520"/>
            <a:ext cx="1904760" cy="2361960"/>
            <a:chOff x="5333760" y="533520"/>
            <a:chExt cx="1904760" cy="2361960"/>
          </a:xfrm>
        </p:grpSpPr>
        <p:sp>
          <p:nvSpPr>
            <p:cNvPr id="183" name="Line 43"/>
            <p:cNvSpPr/>
            <p:nvPr/>
          </p:nvSpPr>
          <p:spPr>
            <a:xfrm flipH="1">
              <a:off x="5333760" y="533520"/>
              <a:ext cx="228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44"/>
            <p:cNvSpPr/>
            <p:nvPr/>
          </p:nvSpPr>
          <p:spPr>
            <a:xfrm flipH="1" flipV="1">
              <a:off x="5333760" y="1676520"/>
              <a:ext cx="190476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49"/>
          <p:cNvGrpSpPr/>
          <p:nvPr/>
        </p:nvGrpSpPr>
        <p:grpSpPr>
          <a:xfrm>
            <a:off x="1066680" y="1676520"/>
            <a:ext cx="3353040" cy="4572000"/>
            <a:chOff x="1066680" y="1676520"/>
            <a:chExt cx="3353040" cy="4572000"/>
          </a:xfrm>
        </p:grpSpPr>
        <p:sp>
          <p:nvSpPr>
            <p:cNvPr id="186" name="Line 47"/>
            <p:cNvSpPr/>
            <p:nvPr/>
          </p:nvSpPr>
          <p:spPr>
            <a:xfrm flipV="1">
              <a:off x="3809880" y="1676520"/>
              <a:ext cx="60984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48"/>
            <p:cNvSpPr/>
            <p:nvPr/>
          </p:nvSpPr>
          <p:spPr>
            <a:xfrm flipV="1">
              <a:off x="1066680" y="1752480"/>
              <a:ext cx="335304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52"/>
          <p:cNvGrpSpPr/>
          <p:nvPr/>
        </p:nvGrpSpPr>
        <p:grpSpPr>
          <a:xfrm>
            <a:off x="1981080" y="1676520"/>
            <a:ext cx="2667240" cy="4572000"/>
            <a:chOff x="1981080" y="1676520"/>
            <a:chExt cx="2667240" cy="4572000"/>
          </a:xfrm>
        </p:grpSpPr>
        <p:sp>
          <p:nvSpPr>
            <p:cNvPr id="189" name="Line 50"/>
            <p:cNvSpPr/>
            <p:nvPr/>
          </p:nvSpPr>
          <p:spPr>
            <a:xfrm flipV="1">
              <a:off x="1981080" y="1676520"/>
              <a:ext cx="2667240" cy="3657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1"/>
            <p:cNvSpPr/>
            <p:nvPr/>
          </p:nvSpPr>
          <p:spPr>
            <a:xfrm flipV="1">
              <a:off x="4343400" y="1676520"/>
              <a:ext cx="30492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5"/>
          <p:cNvGrpSpPr/>
          <p:nvPr/>
        </p:nvGrpSpPr>
        <p:grpSpPr>
          <a:xfrm>
            <a:off x="4724280" y="1676520"/>
            <a:ext cx="2210040" cy="4572000"/>
            <a:chOff x="4724280" y="1676520"/>
            <a:chExt cx="2210040" cy="4572000"/>
          </a:xfrm>
        </p:grpSpPr>
        <p:sp>
          <p:nvSpPr>
            <p:cNvPr id="192" name="Line 53"/>
            <p:cNvSpPr/>
            <p:nvPr/>
          </p:nvSpPr>
          <p:spPr>
            <a:xfrm flipV="1">
              <a:off x="4724280" y="1676520"/>
              <a:ext cx="22860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4"/>
            <p:cNvSpPr/>
            <p:nvPr/>
          </p:nvSpPr>
          <p:spPr>
            <a:xfrm flipH="1" flipV="1">
              <a:off x="5029200" y="1752480"/>
              <a:ext cx="19051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58"/>
          <p:cNvGrpSpPr/>
          <p:nvPr/>
        </p:nvGrpSpPr>
        <p:grpSpPr>
          <a:xfrm>
            <a:off x="5181120" y="1752480"/>
            <a:ext cx="2210040" cy="4495680"/>
            <a:chOff x="5181120" y="1752480"/>
            <a:chExt cx="2210040" cy="4495680"/>
          </a:xfrm>
        </p:grpSpPr>
        <p:sp>
          <p:nvSpPr>
            <p:cNvPr id="195" name="Line 56"/>
            <p:cNvSpPr/>
            <p:nvPr/>
          </p:nvSpPr>
          <p:spPr>
            <a:xfrm flipH="1" flipV="1">
              <a:off x="5181120" y="1752480"/>
              <a:ext cx="2210040" cy="198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 flipH="1" flipV="1">
              <a:off x="5257440" y="1828440"/>
              <a:ext cx="304920" cy="441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 Box 59"/>
          <p:cNvSpPr/>
          <p:nvPr/>
        </p:nvSpPr>
        <p:spPr>
          <a:xfrm>
            <a:off x="152280" y="6324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0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1"/>
          <p:cNvSpPr/>
          <p:nvPr/>
        </p:nvSpPr>
        <p:spPr>
          <a:xfrm>
            <a:off x="7467480" y="63244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nes of the Wrist (Which hand? what view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WristPALabelled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es of Wrist (which hand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3" descr="wriL3006"/>
          <p:cNvPicPr/>
          <p:nvPr/>
        </p:nvPicPr>
        <p:blipFill>
          <a:blip r:embed="rId1"/>
          <a:stretch/>
        </p:blipFill>
        <p:spPr>
          <a:xfrm>
            <a:off x="6094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5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6"/>
          <p:cNvSpPr/>
          <p:nvPr/>
        </p:nvSpPr>
        <p:spPr>
          <a:xfrm>
            <a:off x="518328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09804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240680" y="312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70884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7838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480276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659400" y="5562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27453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307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11660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5029200" y="426672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3"/>
          <p:cNvSpPr/>
          <p:nvPr/>
        </p:nvSpPr>
        <p:spPr>
          <a:xfrm flipV="1">
            <a:off x="3809880" y="3962520"/>
            <a:ext cx="152424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3124080" y="3581280"/>
            <a:ext cx="22860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0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5400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2"/>
          <p:cNvSpPr/>
          <p:nvPr/>
        </p:nvSpPr>
        <p:spPr>
          <a:xfrm>
            <a:off x="7697160" y="64612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7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5029920" y="1295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apez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5945760" y="18288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7239960" y="31240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7086600" y="41911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6782040" y="48769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3"/>
          <p:cNvSpPr/>
          <p:nvPr/>
        </p:nvSpPr>
        <p:spPr>
          <a:xfrm>
            <a:off x="4802040" y="53341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 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"/>
          <p:cNvSpPr/>
          <p:nvPr/>
        </p:nvSpPr>
        <p:spPr>
          <a:xfrm>
            <a:off x="3429720" y="57150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1753560" y="60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. 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2"/>
          <p:cNvSpPr/>
          <p:nvPr/>
        </p:nvSpPr>
        <p:spPr>
          <a:xfrm flipV="1">
            <a:off x="5029200" y="42670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3"/>
          <p:cNvSpPr/>
          <p:nvPr/>
        </p:nvSpPr>
        <p:spPr>
          <a:xfrm flipV="1">
            <a:off x="3657600" y="396252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4"/>
          <p:cNvSpPr/>
          <p:nvPr/>
        </p:nvSpPr>
        <p:spPr>
          <a:xfrm flipV="1">
            <a:off x="2438280" y="3580920"/>
            <a:ext cx="29718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48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9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0"/>
          <p:cNvSpPr/>
          <p:nvPr/>
        </p:nvSpPr>
        <p:spPr>
          <a:xfrm>
            <a:off x="2743200" y="1143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tacarp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1080" y="1523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al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2"/>
          <p:cNvSpPr/>
          <p:nvPr/>
        </p:nvSpPr>
        <p:spPr>
          <a:xfrm>
            <a:off x="7316280" y="63244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i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c Gir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pbones – Innominate B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up of 3 fused b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iu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ch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371600" y="3733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304812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etabul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p s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point of ilium, ischium, &amp; pub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lateral surface of the Innominate articulates with head of fem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image1PD"/>
          <p:cNvPicPr/>
          <p:nvPr/>
        </p:nvPicPr>
        <p:blipFill>
          <a:blip r:embed="rId1"/>
          <a:stretch/>
        </p:blipFill>
        <p:spPr>
          <a:xfrm>
            <a:off x="5334120" y="1676520"/>
            <a:ext cx="3962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>
                <a:solidFill>
                  <a:srgbClr val="bbe0e3"/>
                </a:solidFill>
                <a:latin typeface="Times New Roman"/>
              </a:rPr>
              <a:t>Appendicular Skelet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us to move and manipulat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ll bones besides axial skelet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lim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ortiv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gird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5348" t="6194" r="1402" b="7087"/>
          <a:stretch/>
        </p:blipFill>
        <p:spPr>
          <a:xfrm>
            <a:off x="3505320" y="0"/>
            <a:ext cx="56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ists of 2 innominate bones, sacrum, &amp; coccy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rcRect l="2458" t="11431" r="2906" b="9461"/>
          <a:stretch/>
        </p:blipFill>
        <p:spPr>
          <a:xfrm>
            <a:off x="0" y="1295280"/>
            <a:ext cx="89154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mage:Pelvis diagra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4056" t="25406" r="4271" b="22232"/>
          <a:stretch/>
        </p:blipFill>
        <p:spPr>
          <a:xfrm>
            <a:off x="-79200" y="2786040"/>
            <a:ext cx="9223200" cy="40719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earing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larged pelvic out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 pubic angle (&gt; 10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urvature of sacrum and cocc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, circular pelvic in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mur: What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6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085840" cy="5488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7"/>
          <p:cNvSpPr/>
          <p:nvPr/>
        </p:nvSpPr>
        <p:spPr>
          <a:xfrm>
            <a:off x="1297080" y="5638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5639400" y="5791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6629760" y="2362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6323760" y="632448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Le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6231600" y="44496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837360" y="47242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1523880" y="358128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6171480" y="137160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914040" y="22860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829880" y="9907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l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20952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9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5849280" y="71604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1"/>
          <p:cNvSpPr/>
          <p:nvPr/>
        </p:nvSpPr>
        <p:spPr>
          <a:xfrm>
            <a:off x="1981080" y="5791320"/>
            <a:ext cx="22100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2"/>
          <p:cNvSpPr/>
          <p:nvPr/>
        </p:nvSpPr>
        <p:spPr>
          <a:xfrm flipH="1" flipV="1">
            <a:off x="4571640" y="5943600"/>
            <a:ext cx="1066680" cy="7632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3"/>
          <p:cNvSpPr/>
          <p:nvPr/>
        </p:nvSpPr>
        <p:spPr>
          <a:xfrm flipH="1">
            <a:off x="4800600" y="2590920"/>
            <a:ext cx="18288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4495680" y="914400"/>
            <a:ext cx="1371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5"/>
          <p:cNvSpPr/>
          <p:nvPr/>
        </p:nvSpPr>
        <p:spPr>
          <a:xfrm flipH="1" flipV="1">
            <a:off x="5105160" y="1523880"/>
            <a:ext cx="10666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6"/>
          <p:cNvSpPr/>
          <p:nvPr/>
        </p:nvSpPr>
        <p:spPr>
          <a:xfrm flipV="1">
            <a:off x="2819520" y="2057400"/>
            <a:ext cx="1752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7"/>
          <p:cNvSpPr/>
          <p:nvPr/>
        </p:nvSpPr>
        <p:spPr>
          <a:xfrm flipH="1">
            <a:off x="4419720" y="4648320"/>
            <a:ext cx="182880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8"/>
          <p:cNvSpPr/>
          <p:nvPr/>
        </p:nvSpPr>
        <p:spPr>
          <a:xfrm>
            <a:off x="2590920" y="4952880"/>
            <a:ext cx="13716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9"/>
          <p:cNvSpPr/>
          <p:nvPr/>
        </p:nvSpPr>
        <p:spPr>
          <a:xfrm>
            <a:off x="2971800" y="3809880"/>
            <a:ext cx="15238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4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5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172560" y="632448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9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0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1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2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33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35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36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7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8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9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6081120" y="33480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41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1027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28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29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30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33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034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35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36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037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39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40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52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054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341" name="Line 1041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042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043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044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5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046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047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048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049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50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51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53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nemonic for Learning Tarsal Bone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27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55" name="Text Box 1028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29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30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31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32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33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34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35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1036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364" name="Line 1037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38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041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367" name="Line 1039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040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044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370" name="Line 1042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43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1047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373" name="Line 1045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46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050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376" name="Line 1048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049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053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379" name="Line 1051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052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56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382" name="Line 1054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055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1058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4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387" name="Picture 1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16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18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19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0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1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2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3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4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1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2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36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8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39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0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1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42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44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5"/>
          <p:cNvSpPr/>
          <p:nvPr/>
        </p:nvSpPr>
        <p:spPr>
          <a:xfrm>
            <a:off x="639936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1050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414" name="Picture 1027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028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1029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1030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1031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1032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1033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1034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035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036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037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38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039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040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041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042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043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1044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045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046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047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048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049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Text Box 1051"/>
          <p:cNvSpPr/>
          <p:nvPr/>
        </p:nvSpPr>
        <p:spPr>
          <a:xfrm>
            <a:off x="632304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st M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3" descr="wribonesmri"/>
          <p:cNvPicPr/>
          <p:nvPr/>
        </p:nvPicPr>
        <p:blipFill>
          <a:blip r:embed="rId1"/>
          <a:stretch/>
        </p:blipFill>
        <p:spPr>
          <a:xfrm>
            <a:off x="685800" y="990720"/>
            <a:ext cx="7391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A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873080" cy="5475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30600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6706800" y="2286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934680" y="3808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v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63200" y="5943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859080" y="6095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28600" y="624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45560" y="1203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553440" y="17524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ac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288360" y="204156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6385320" y="105084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m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385320" y="280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33160" y="38098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095160" y="4495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6629760" y="5410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304200" y="48006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752480" y="6172200"/>
            <a:ext cx="2514600" cy="15228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3"/>
          <p:cNvSpPr/>
          <p:nvPr/>
        </p:nvSpPr>
        <p:spPr>
          <a:xfrm flipH="1">
            <a:off x="4572000" y="6324480"/>
            <a:ext cx="236232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6004800" y="36417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5"/>
          <p:cNvSpPr/>
          <p:nvPr/>
        </p:nvSpPr>
        <p:spPr>
          <a:xfrm flipH="1">
            <a:off x="5029200" y="685800"/>
            <a:ext cx="1905120" cy="60948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6"/>
          <p:cNvSpPr/>
          <p:nvPr/>
        </p:nvSpPr>
        <p:spPr>
          <a:xfrm flipH="1" flipV="1">
            <a:off x="5409720" y="2057400"/>
            <a:ext cx="129564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7"/>
          <p:cNvSpPr/>
          <p:nvPr/>
        </p:nvSpPr>
        <p:spPr>
          <a:xfrm flipH="1" flipV="1">
            <a:off x="4952880" y="1904760"/>
            <a:ext cx="1447920" cy="10666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 flipH="1" flipV="1">
            <a:off x="5028840" y="1523880"/>
            <a:ext cx="1600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0"/>
          <p:cNvSpPr/>
          <p:nvPr/>
        </p:nvSpPr>
        <p:spPr>
          <a:xfrm flipH="1">
            <a:off x="4572000" y="1295280"/>
            <a:ext cx="18288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1"/>
          <p:cNvSpPr/>
          <p:nvPr/>
        </p:nvSpPr>
        <p:spPr>
          <a:xfrm flipV="1">
            <a:off x="1523880" y="3047760"/>
            <a:ext cx="30481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838800" y="5334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5"/>
          <p:cNvSpPr/>
          <p:nvPr/>
        </p:nvSpPr>
        <p:spPr>
          <a:xfrm>
            <a:off x="2286000" y="5562720"/>
            <a:ext cx="21337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6"/>
          <p:cNvSpPr/>
          <p:nvPr/>
        </p:nvSpPr>
        <p:spPr>
          <a:xfrm>
            <a:off x="2666880" y="5029200"/>
            <a:ext cx="16765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7"/>
          <p:cNvSpPr/>
          <p:nvPr/>
        </p:nvSpPr>
        <p:spPr>
          <a:xfrm flipV="1">
            <a:off x="2895480" y="3733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8"/>
          <p:cNvSpPr/>
          <p:nvPr/>
        </p:nvSpPr>
        <p:spPr>
          <a:xfrm flipV="1">
            <a:off x="2286000" y="1828800"/>
            <a:ext cx="2438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9"/>
          <p:cNvSpPr/>
          <p:nvPr/>
        </p:nvSpPr>
        <p:spPr>
          <a:xfrm>
            <a:off x="2819520" y="1447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0"/>
          <p:cNvSpPr/>
          <p:nvPr/>
        </p:nvSpPr>
        <p:spPr>
          <a:xfrm flipH="1">
            <a:off x="4724280" y="5638680"/>
            <a:ext cx="19814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1"/>
          <p:cNvSpPr/>
          <p:nvPr/>
        </p:nvSpPr>
        <p:spPr>
          <a:xfrm flipH="1">
            <a:off x="4952520" y="480060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2"/>
          <p:cNvSpPr/>
          <p:nvPr/>
        </p:nvSpPr>
        <p:spPr>
          <a:xfrm flipH="1">
            <a:off x="4647960" y="3962520"/>
            <a:ext cx="144756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76320" y="2443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3998880" y="1600200"/>
            <a:ext cx="5157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scapula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74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Girdle (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ShoulderIntRotLabelled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Pos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3356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1"/>
          <a:stretch/>
        </p:blipFill>
        <p:spPr>
          <a:xfrm>
            <a:off x="3600360" y="684360"/>
            <a:ext cx="194652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6627240" y="63244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Arm,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533880" y="16002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79800" y="11430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e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453600" y="220968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enoid fossa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6245640" y="68580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628320" y="2286000"/>
            <a:ext cx="20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457200" y="3048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1143720" y="5715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76560" y="487692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ecranon process of 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6690240" y="54403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400080" y="121932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ube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608760" y="373392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78000" y="60948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romion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6247440" y="396252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epicondy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5028840" y="5638680"/>
            <a:ext cx="1676520" cy="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 flipV="1">
            <a:off x="1828800" y="5790960"/>
            <a:ext cx="28954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3200400" y="5105520"/>
            <a:ext cx="15238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 flipV="1">
            <a:off x="1523880" y="1447920"/>
            <a:ext cx="251460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4"/>
          <p:cNvSpPr/>
          <p:nvPr/>
        </p:nvSpPr>
        <p:spPr>
          <a:xfrm flipV="1">
            <a:off x="3124080" y="1447920"/>
            <a:ext cx="1371600" cy="9144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2209680" y="1142640"/>
            <a:ext cx="175284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2666880" y="838080"/>
            <a:ext cx="198144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7"/>
          <p:cNvSpPr/>
          <p:nvPr/>
        </p:nvSpPr>
        <p:spPr>
          <a:xfrm>
            <a:off x="1523880" y="3276720"/>
            <a:ext cx="32767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8"/>
          <p:cNvSpPr/>
          <p:nvPr/>
        </p:nvSpPr>
        <p:spPr>
          <a:xfrm>
            <a:off x="2133720" y="4114800"/>
            <a:ext cx="23619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9"/>
          <p:cNvSpPr/>
          <p:nvPr/>
        </p:nvSpPr>
        <p:spPr>
          <a:xfrm flipH="1">
            <a:off x="5028840" y="4267080"/>
            <a:ext cx="12193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 flipH="1">
            <a:off x="4876920" y="2590920"/>
            <a:ext cx="17524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 flipH="1" flipV="1">
            <a:off x="5029200" y="137124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 flipH="1">
            <a:off x="4800600" y="914400"/>
            <a:ext cx="1447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4:36:11Z</dcterms:created>
  <dc:creator>S O</dc:creator>
  <dc:description/>
  <dc:language>en-US</dc:language>
  <cp:lastModifiedBy>Andrew S. Hansell</cp:lastModifiedBy>
  <dcterms:modified xsi:type="dcterms:W3CDTF">2013-09-13T11:18:43Z</dcterms:modified>
  <cp:revision>199</cp:revision>
  <dc:subject/>
  <dc:title>PowerPoint Presentation</dc:title>
</cp:coreProperties>
</file>